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9D415-67FB-4DE6-A555-B180F848BD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9D9BD-1541-4050-B5FC-C5724BE259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C48C0-38DA-468E-B2FD-F1955AB9CC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DC3C3-BDF1-4EB6-9DE5-26E58B84B4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38994-A046-4820-848F-40B87F63EF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FAE3F-2735-43E7-ABD5-C113502067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29A97-DF4E-4D06-B503-F8112A60A7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E1056-0D74-4809-9BED-C93C792E33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533EE-785F-4375-B6CB-95432074A0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781C9-C39B-4862-BC72-6B1061D30C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2A1B8-F7C9-4266-86BD-91FBE79A58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EEB2B-C3FD-476F-B167-A88E142FB4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203EE-F50D-446B-8C60-90B1CDD00E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5BD8D-8C11-4124-A942-4636E1C3E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33ED9-0DDD-4383-B844-855AAB52C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6D888-E4BF-4DBB-BDF9-6A8B8C640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213FF-8436-4639-A1E7-7BFB3990C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33C44-4F11-4CDE-BF40-69044A98F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1BF16-89F9-4876-B123-3648292BE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5542A-255B-4AD4-B8D8-3509E4C33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AF2E4-4CD7-46A7-B8F2-3746E4E1E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430A5-CDE2-4646-998C-13624161D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974BB-47CB-4232-880B-BE4791976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C8E36-063B-4A0D-A600-D09F09B68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87B8E-C81E-4722-A2DC-290166D52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3AD50-8847-4F71-8F6F-5752A16AA2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tudent Portfolio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64008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• 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are portfolio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• 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have been your experiences with portfolios in K-12 education?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Picture 6" descr=""/>
          <p:cNvPicPr/>
          <p:nvPr/>
        </p:nvPicPr>
        <p:blipFill>
          <a:blip r:embed="rId1"/>
          <a:stretch/>
        </p:blipFill>
        <p:spPr>
          <a:xfrm>
            <a:off x="457200" y="1219320"/>
            <a:ext cx="8128080" cy="342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refore,…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681480" y="1295280"/>
            <a:ext cx="635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student portfolio has three major compon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685800" y="1981080"/>
          <a:ext cx="7772400" cy="448164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532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</a:rPr>
                        <a:t>Compon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</a:rPr>
                        <a:t>Examp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. Documentation of the development of major work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otes, diagrams, drafts, and final versions of an essay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73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. Evidence of the range or variety of student wor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 journal providing evidence of the depth and breadth of student</a:t>
                      </a:r>
                      <a:r>
                        <a:rPr b="0" lang="ja-JP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’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 reading interests, personal responses to literature,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and analysis of literatu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68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. Student reflectio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tudent description of the basic features of his/her work, the changes over time, and the work yet to be achieved.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otential Benefits of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ortfolio Assessmen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development of student responsibility for learn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newed emphasis on process, a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cus on a developmental view of learning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2971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Stiggins says: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4" name="Picture 4" descr="GS127@seattleu.edu_20151123_120147.pdf"/>
          <p:cNvPicPr/>
          <p:nvPr/>
        </p:nvPicPr>
        <p:blipFill>
          <a:blip r:embed="rId1"/>
          <a:srcRect l="21082" t="10242" r="6847" b="20141"/>
          <a:stretch/>
        </p:blipFill>
        <p:spPr>
          <a:xfrm rot="10800000">
            <a:off x="3733920" y="457200"/>
            <a:ext cx="4952880" cy="6191280"/>
          </a:xfrm>
          <a:prstGeom prst="rect">
            <a:avLst/>
          </a:prstGeom>
          <a:ln w="0">
            <a:noFill/>
          </a:ln>
        </p:spPr>
      </p:pic>
      <p:sp>
        <p:nvSpPr>
          <p:cNvPr id="95" name="TextBox 6"/>
          <p:cNvSpPr/>
          <p:nvPr/>
        </p:nvSpPr>
        <p:spPr>
          <a:xfrm>
            <a:off x="104760" y="3124080"/>
            <a:ext cx="3716280" cy="21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Times New Roman"/>
                <a:ea typeface="ＭＳ Ｐゴシック"/>
              </a:rPr>
              <a:t>This is an example of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Times New Roman"/>
                <a:ea typeface="ＭＳ Ｐゴシック"/>
              </a:rPr>
              <a:t>stimulus tool used to enab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Times New Roman"/>
                <a:ea typeface="ＭＳ Ｐゴシック"/>
              </a:rPr>
              <a:t>student reflection regard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Times New Roman"/>
                <a:ea typeface="ＭＳ Ｐゴシック"/>
              </a:rPr>
              <a:t>the work samples to b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Times New Roman"/>
                <a:ea typeface="ＭＳ Ｐゴシック"/>
              </a:rPr>
              <a:t>included in a portfolio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fbfbf"/>
                </a:solidFill>
                <a:latin typeface="Times New Roman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bfbfbf"/>
                </a:solidFill>
                <a:latin typeface="Times New Roman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bfbfbf"/>
                </a:solidFill>
                <a:latin typeface="Times New Roman"/>
                <a:ea typeface="ＭＳ Ｐゴシック"/>
              </a:rPr>
              <a:t>(Stiggins, 2012)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5" descr=""/>
          <p:cNvPicPr/>
          <p:nvPr/>
        </p:nvPicPr>
        <p:blipFill>
          <a:blip r:embed="rId1"/>
          <a:stretch/>
        </p:blipFill>
        <p:spPr>
          <a:xfrm>
            <a:off x="3886200" y="3809880"/>
            <a:ext cx="1670040" cy="26672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"/>
          <p:cNvPicPr/>
          <p:nvPr/>
        </p:nvPicPr>
        <p:blipFill>
          <a:blip r:embed="rId2"/>
          <a:stretch/>
        </p:blipFill>
        <p:spPr>
          <a:xfrm>
            <a:off x="2514600" y="1751040"/>
            <a:ext cx="3828960" cy="5105520"/>
          </a:xfrm>
          <a:prstGeom prst="rect">
            <a:avLst/>
          </a:prstGeom>
          <a:ln w="0">
            <a:noFill/>
          </a:ln>
        </p:spPr>
      </p:pic>
      <p:sp>
        <p:nvSpPr>
          <p:cNvPr id="98" name="Oval Callout 1"/>
          <p:cNvSpPr/>
          <p:nvPr/>
        </p:nvSpPr>
        <p:spPr>
          <a:xfrm>
            <a:off x="1752480" y="457200"/>
            <a:ext cx="2133720" cy="1295280"/>
          </a:xfrm>
          <a:prstGeom prst="wedgeEllipseCallout">
            <a:avLst>
              <a:gd name="adj1" fmla="val 62296"/>
              <a:gd name="adj2" fmla="val 99689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 love portfolio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3"/>
          <p:cNvSpPr/>
          <p:nvPr/>
        </p:nvSpPr>
        <p:spPr>
          <a:xfrm>
            <a:off x="5300640" y="3581280"/>
            <a:ext cx="381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y does Ms. Frizzle      love portfolio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0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tudent Portfolio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64008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dent portfolio is a purposeful collection of student work that tells a story about the student’s efforts, progress, or achievement in one or more academic disciplines.  This collection must include student participation in the selection of portfolio content; guidelines for the selection of that material; criteria for judging the merit of the work collected, and evidence of student self-reflection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579240" y="6087960"/>
            <a:ext cx="801864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Arter &amp; Spandler (1992).  Using portfolios of student work in instruction and assessment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ducational Measurement: Issues and Practices, 11 (1) 36-44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6" descr=""/>
          <p:cNvPicPr/>
          <p:nvPr/>
        </p:nvPicPr>
        <p:blipFill>
          <a:blip r:embed="rId1"/>
          <a:stretch/>
        </p:blipFill>
        <p:spPr>
          <a:xfrm>
            <a:off x="457200" y="1219320"/>
            <a:ext cx="8128080" cy="34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tudent Portfolio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64008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dent portfolio is a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purposeful collection of student work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that tells a story about the student’s efforts, progress, or achievement in one or more academic disciplines.  This collection must include student participation in the selection of portfolio content; guidelines for the selection of that material; criteria for judging the merit of the work collected, and evidence of student self-reflection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266760" y="6194520"/>
            <a:ext cx="7149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rter &amp; Spandler (1992).  Using portfolios of student work in instruction and assessment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ducational Measurement: Issues and Practices, 11 (1) 36-44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6" descr=""/>
          <p:cNvPicPr/>
          <p:nvPr/>
        </p:nvPicPr>
        <p:blipFill>
          <a:blip r:embed="rId1"/>
          <a:stretch/>
        </p:blipFill>
        <p:spPr>
          <a:xfrm>
            <a:off x="457200" y="1219320"/>
            <a:ext cx="8128080" cy="342720"/>
          </a:xfrm>
          <a:prstGeom prst="rect">
            <a:avLst/>
          </a:prstGeom>
          <a:ln w="0">
            <a:noFill/>
          </a:ln>
        </p:spPr>
      </p:pic>
      <p:sp>
        <p:nvSpPr>
          <p:cNvPr id="59" name="Text Box 4"/>
          <p:cNvSpPr/>
          <p:nvPr/>
        </p:nvSpPr>
        <p:spPr>
          <a:xfrm>
            <a:off x="579240" y="6087960"/>
            <a:ext cx="801864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Arter &amp; Spandler (1992).  Using portfolios of student work in instruction and assessment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ducational Measurement: Issues and Practices, 11 (1) 36-44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tudent Portfolio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64008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dent portfolio is a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purposeful collection of student work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that tells a story about the student’s efforts, progress, or achievement in one or more academic disciplines.  This collection must include </a:t>
            </a:r>
            <a:r>
              <a:rPr b="0" lang="en-US" sz="2800" spc="-1" strike="noStrike">
                <a:solidFill>
                  <a:srgbClr val="ed181e"/>
                </a:solidFill>
                <a:latin typeface="Times New Roman"/>
              </a:rPr>
              <a:t>student participation in the selection of portfolio conten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; guidelines for the selection of that material; criteria for judging the merit of the work collected, and evidence of student self-reflection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266760" y="6194520"/>
            <a:ext cx="7149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rter &amp; Spandler (1992).  Using portfolios of student work in instruction and assessment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ducational Measurement: Issues and Practices, 11 (1) 36-44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6" descr=""/>
          <p:cNvPicPr/>
          <p:nvPr/>
        </p:nvPicPr>
        <p:blipFill>
          <a:blip r:embed="rId1"/>
          <a:stretch/>
        </p:blipFill>
        <p:spPr>
          <a:xfrm>
            <a:off x="457200" y="1219320"/>
            <a:ext cx="8128080" cy="342720"/>
          </a:xfrm>
          <a:prstGeom prst="rect">
            <a:avLst/>
          </a:prstGeom>
          <a:ln w="0">
            <a:noFill/>
          </a:ln>
        </p:spPr>
      </p:pic>
      <p:sp>
        <p:nvSpPr>
          <p:cNvPr id="64" name="Text Box 4"/>
          <p:cNvSpPr/>
          <p:nvPr/>
        </p:nvSpPr>
        <p:spPr>
          <a:xfrm>
            <a:off x="579240" y="6087960"/>
            <a:ext cx="801864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Arter &amp; Spandler (1992).  Using portfolios of student work in instruction and assessment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ducational Measurement: Issues and Practices, 11 (1) 36-44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tudent Portfolio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64008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dent portfolio is a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purposeful collection of student work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that tells a story about the student’s efforts, progress, or achievement in one or more academic disciplines.  This collection must include student participation in the selection of portfolio content; </a:t>
            </a:r>
            <a:r>
              <a:rPr b="0" lang="en-US" sz="2800" spc="-1" strike="noStrike">
                <a:solidFill>
                  <a:srgbClr val="ed181e"/>
                </a:solidFill>
                <a:latin typeface="Times New Roman"/>
              </a:rPr>
              <a:t>guidelines for the selection of that material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; criteria for judging the merit of the work collected, and evidence of student self-reflection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266760" y="6194520"/>
            <a:ext cx="7149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rter &amp; Spandler (1992).  Using portfolios of student work in instruction and assessment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ducational Measurement: Issues and Practices, 11 (1) 36-44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6" descr=""/>
          <p:cNvPicPr/>
          <p:nvPr/>
        </p:nvPicPr>
        <p:blipFill>
          <a:blip r:embed="rId1"/>
          <a:stretch/>
        </p:blipFill>
        <p:spPr>
          <a:xfrm>
            <a:off x="457200" y="1219320"/>
            <a:ext cx="8128080" cy="342720"/>
          </a:xfrm>
          <a:prstGeom prst="rect">
            <a:avLst/>
          </a:prstGeom>
          <a:ln w="0">
            <a:noFill/>
          </a:ln>
        </p:spPr>
      </p:pic>
      <p:sp>
        <p:nvSpPr>
          <p:cNvPr id="69" name="Text Box 4"/>
          <p:cNvSpPr/>
          <p:nvPr/>
        </p:nvSpPr>
        <p:spPr>
          <a:xfrm>
            <a:off x="579240" y="6087960"/>
            <a:ext cx="801864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Arter &amp; Spandler (1992).  Using portfolios of student work in instruction and assessment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ducational Measurement: Issues and Practices, 11 (1) 36-44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tudent Portfolio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64008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dent portfolio is a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purposeful collection of student work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that tells a story about the student’s efforts, progress, or achievement in one or more academic disciplines.  This collection must include student participation in the selection of portfolio content; guidelines for the selection of that material; </a:t>
            </a:r>
            <a:r>
              <a:rPr b="0" lang="en-US" sz="2800" spc="-1" strike="noStrike">
                <a:solidFill>
                  <a:srgbClr val="ed181e"/>
                </a:solidFill>
                <a:latin typeface="Times New Roman"/>
              </a:rPr>
              <a:t>criteria for judging the merit of the work collecte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and evidence of student self-reflection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Text Box 4"/>
          <p:cNvSpPr/>
          <p:nvPr/>
        </p:nvSpPr>
        <p:spPr>
          <a:xfrm>
            <a:off x="266760" y="6194520"/>
            <a:ext cx="7149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rter &amp; Spandler (1992).  Using portfolios of student work in instruction and assessment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ducational Measurement: Issues and Practices, 11 (1) 36-44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6" descr=""/>
          <p:cNvPicPr/>
          <p:nvPr/>
        </p:nvPicPr>
        <p:blipFill>
          <a:blip r:embed="rId1"/>
          <a:stretch/>
        </p:blipFill>
        <p:spPr>
          <a:xfrm>
            <a:off x="457200" y="1219320"/>
            <a:ext cx="8128080" cy="342720"/>
          </a:xfrm>
          <a:prstGeom prst="rect">
            <a:avLst/>
          </a:prstGeom>
          <a:ln w="0">
            <a:noFill/>
          </a:ln>
        </p:spPr>
      </p:pic>
      <p:sp>
        <p:nvSpPr>
          <p:cNvPr id="74" name="Text Box 4"/>
          <p:cNvSpPr/>
          <p:nvPr/>
        </p:nvSpPr>
        <p:spPr>
          <a:xfrm>
            <a:off x="579240" y="6087960"/>
            <a:ext cx="801864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Arter &amp; Spandler (1992).  Using portfolios of student work in instruction and assessment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ducational Measurement: Issues and Practices, 11 (1) 36-44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tudent Portfolio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64008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dent portfolio is a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purposeful collection of student work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that tells a story about the student’s efforts, progress, or achievement in one or more academic disciplines.  This collection must include student participation in the selection of portfolio content; guidelines for the selection of that material; criteria for judging the merit of the work collected, and </a:t>
            </a:r>
            <a:r>
              <a:rPr b="0" lang="en-US" sz="2800" spc="-1" strike="noStrike">
                <a:solidFill>
                  <a:srgbClr val="ed181e"/>
                </a:solidFill>
                <a:latin typeface="Times New Roman"/>
              </a:rPr>
              <a:t>evidence of student self-reflection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266760" y="6194520"/>
            <a:ext cx="7149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rter &amp; Spandler (1992).  Using portfolios of student work in instruction and assessment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ducational Measurement: Issues and Practices, 11 (1) 36-44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6" descr=""/>
          <p:cNvPicPr/>
          <p:nvPr/>
        </p:nvPicPr>
        <p:blipFill>
          <a:blip r:embed="rId1"/>
          <a:stretch/>
        </p:blipFill>
        <p:spPr>
          <a:xfrm>
            <a:off x="457200" y="1219320"/>
            <a:ext cx="8128080" cy="342720"/>
          </a:xfrm>
          <a:prstGeom prst="rect">
            <a:avLst/>
          </a:prstGeom>
          <a:ln w="0">
            <a:noFill/>
          </a:ln>
        </p:spPr>
      </p:pic>
      <p:sp>
        <p:nvSpPr>
          <p:cNvPr id="79" name="Text Box 4"/>
          <p:cNvSpPr/>
          <p:nvPr/>
        </p:nvSpPr>
        <p:spPr>
          <a:xfrm>
            <a:off x="579240" y="6087960"/>
            <a:ext cx="801864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Arter &amp; Spandler (1992).  Using portfolios of student work in instruction and assessment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ducational Measurement: Issues and Practices, 11 (1) 36-44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304920" y="198108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how longitudinal grow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flect stages of development in the completion of wor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present a variety of tasks and so can illustrate bread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e.g., in language art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journal entries,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formal essays,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poems,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narratives,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tape recordings of classroom presentations, etc.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Rectangle 9"/>
          <p:cNvSpPr/>
          <p:nvPr/>
        </p:nvSpPr>
        <p:spPr>
          <a:xfrm>
            <a:off x="60948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tudent Portfoli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6" descr=""/>
          <p:cNvPicPr/>
          <p:nvPr/>
        </p:nvPicPr>
        <p:blipFill>
          <a:blip r:embed="rId1"/>
          <a:stretch/>
        </p:blipFill>
        <p:spPr>
          <a:xfrm>
            <a:off x="457200" y="1219320"/>
            <a:ext cx="8128080" cy="342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304920" y="1981080"/>
            <a:ext cx="861048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how longitudinal grow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flect stages of development in the completion of wor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present a variety of tasks and so can illustrate bread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Rectangle 4"/>
          <p:cNvSpPr/>
          <p:nvPr/>
        </p:nvSpPr>
        <p:spPr>
          <a:xfrm>
            <a:off x="60948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tudent Portfoli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5"/>
          <p:cNvSpPr/>
          <p:nvPr/>
        </p:nvSpPr>
        <p:spPr>
          <a:xfrm>
            <a:off x="304920" y="3352680"/>
            <a:ext cx="86104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present multiple opportunities to demonstrate compet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volve the student in the selection process,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clude student reflections on their work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6"/>
          <p:cNvSpPr/>
          <p:nvPr/>
        </p:nvSpPr>
        <p:spPr>
          <a:xfrm>
            <a:off x="362160" y="5241960"/>
            <a:ext cx="689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Portfolios are samples of student work rather tha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responses to standardized stimul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6" descr=""/>
          <p:cNvPicPr/>
          <p:nvPr/>
        </p:nvPicPr>
        <p:blipFill>
          <a:blip r:embed="rId1"/>
          <a:stretch/>
        </p:blipFill>
        <p:spPr>
          <a:xfrm>
            <a:off x="457200" y="1219320"/>
            <a:ext cx="8128080" cy="342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04:10:13Z</dcterms:created>
  <dc:creator>Mark Roddy</dc:creator>
  <dc:description/>
  <dc:language>en-US</dc:language>
  <cp:lastModifiedBy>Roddy, Mark</cp:lastModifiedBy>
  <cp:lastPrinted>2015-11-23T20:27:37Z</cp:lastPrinted>
  <dcterms:modified xsi:type="dcterms:W3CDTF">2017-11-28T15:41:40Z</dcterms:modified>
  <cp:revision>25</cp:revision>
  <dc:subject/>
  <dc:title>Student Portfolios</dc:title>
</cp:coreProperties>
</file>